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3C4-F973-48B6-80E1-EEE575E5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2B2-7E20-4AC7-9802-E201EDB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9E5-A0B9-4E5D-B398-92702ABF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DE9-5D49-4CED-921E-7254B665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132-5583-48FB-9178-7645F05B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5DD5-C02F-4821-974E-3CD637C7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BFB6-F2D4-43D3-BC75-AF49793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F11D-DE5D-483F-8CBF-CBC0E2EA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471-0C7D-44E7-A3BF-FC6648A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7602-A032-43E9-84E6-D7CF6B69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835-818D-4A31-BBBB-2480F72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311-1685-4A7C-B88D-424D807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F31F-A03B-4684-B7A9-76B863B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6FD0-9C58-4250-90B6-32C3A38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E11-86CA-43F2-938D-090D56E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6EA6-6435-427A-9B98-1748DF4B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EF58-A010-4819-9627-2911EAF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2EE-9F95-42B7-93EB-B414B13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FD8-0EBB-4924-81D7-1EC09354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BAF-94D7-445E-A0C8-56BB9D8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142-11D0-4C20-8FE1-3CD6DA7B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28E-4C02-4F0B-90E3-7FD7D66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027-439D-4838-A66F-7336D44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F30-140D-404E-9512-C258BA5D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D8C-48E5-46C8-8651-26D107F3B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4631-279B-45CE-BB7A-FD5EB1EC7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Book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Hymn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,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58-1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brews divided the Psalms into 5 groups or “books”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1 – Psalms 1-4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2 – Psalms 42-7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3 – Psalms 73-8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4 -  Psalms 90-10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 5 – Psalms 107-15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law was contained in 5 books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hat things in the psalms were written about hi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’ last words were quotations from Psalms 22:1 and 31:5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ound in Matt. 27:46 and Luke 23:46, respectivel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the disciples sang a psalm at the “last supper” (Matt. 26:3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ing facts about the Psalm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9 is the longest Psalm and the longest chapter in the B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7 is the shortest Psalm, and the shortest and middle chapter in the B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alm 118:8 is the middle verse in the Bible 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better to trust in the Lord than to put confidence in ma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283 quotations from the OT, 116 are from the Psal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w study the leading ideas and thoughts found in the Psalm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– repeated over and o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– David was always asking for something or thanking God for somet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– a favorite word of Dav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Y – occurs hundreds of tim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ianic prophecies (p. 171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a thousand years before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ferences to David, but they point forward to Christ since they are not applicable to any other person in 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 passages from Psalms are quoted in the NT, which are explicitly used to refer to Chri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 Psalms are clearly devoted to Christ as the Messi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es to God for help (p. 16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giving and praise for God’s deliverance (p. 16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God as the Creator and Sustainer (p. 16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for God’s mighty works (p. 165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 God for who He is (p. 166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Leading Ideas, Subjects of Psal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st between the righteous and the wicked (p. 167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ianic Psalms (discussed earlie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salms give us picture of our sins, our struggles, our sorrows, our joys, our sufferings, our aspirations, our failures, our victories, and ourselv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Wisdom Literatur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, Psalms, Proverbs, Ecclesiastes, and Song of Solomon often called – “poetry” but they are mor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ain “Wisdom Literatur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al with man’s approach to life on earth in all its asp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messages are found in groups of phrases and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men serve God?  Is it for gain, or is it because of devotion and commitm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hymnal – praises, prayers to express our sacred and holy though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rbs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llection of principles and axioms containing the distilled wisdom of all the ages – principles of living righ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clesiastes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aning of “life under the sun”?  What really matters in lif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urpose of the Writing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Solomon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ve so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the feelings of affection, romance, and sexual attraction leading up to marri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ope of Our Study of Psalm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btain a general overview of the whole Bible as it pertains to God’s plan of redem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an overview of Psalms  with some of it’s practical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study each Psalm individu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self a plan to study the Psalm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written b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– 7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ns of Korah – 1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ph – 1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2 (72, 127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– 1 (9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an – 1 (8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an – 1 (8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nymous – 50 (Many written by David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ph, Heman and Ethan were Levite song leaders appointed by Davi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rah was Levi’s great grandson, his father was Izhar, his grandfather was Kohath.  Ten Psalms were written by his s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David, Solomon and Moses very we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duction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lms are songs and poems that 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ise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ss guil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pon God for hel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 thanks to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 the Messia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5:06:17Z</dcterms:modified>
  <cp:revision>32</cp:revision>
  <dc:subject/>
  <dc:title>Job</dc:title>
</cp:coreProperties>
</file>